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89FE-4CE5-415C-9D0B-1BB13889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08BD-816A-4ADA-ADA4-D7BBD0C5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D69A-990D-4FB8-84A4-EDDB746D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E0A-9CE0-4728-A8C2-DE55A038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594ED-4AD1-4F78-B61E-50B1D298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1A49E-F223-4657-BF06-792CC050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A8378-0BE8-4C1F-91F2-97BEEBF2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024D7-D13B-4D86-9CC7-96F69C3A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F9A7C-2551-40B9-B90F-8F366843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6F03E-E488-4F6A-A794-29A646F5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32D97-5AAC-46E7-91DA-6EA1C697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061E-CD95-47F4-B76F-B1B65982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BA612-D711-4A3B-9F94-E203240A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D7FEF-3A2E-425D-A3AA-43DDF6EF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CE182-B9E2-46B7-B998-BA42AAF2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8A5FA-DA4F-44CF-B9A3-062CA39C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7C77C-78AA-46AB-A09B-0FCFEAD0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7352A-C141-47AB-8F19-A3A96D8F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F331E-AF97-45FD-992B-F46A41C2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57E2F-082C-4C0C-9E7C-BBEF95C7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640EC-7970-44E3-B216-466BDB05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362B1-63CA-487B-A9D1-5A7302D6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BA3-C9F8-48A7-B6B4-41542FFF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047EF-1E34-4298-9296-818615AD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4FFA0-5B1D-4087-9C60-DCA696C4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771C2-B3D4-4683-9B41-046A028B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52B8E-AF98-4306-848B-6249EA7E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7196C-874C-4530-A7CE-4EAB0745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DBB48-63C9-4106-B37A-10C042DB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AAD2E-232B-4653-AE9E-E45ECCE2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453B11-5ED3-4B5E-9200-E92ACE53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5A85EA-FE97-4D0B-B717-35A76738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1154B2-CE70-4058-980A-C71676C4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95D-67F6-44B4-B6A9-AC36BDCA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A83B0F-03FC-424B-85BA-A401CA51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7718F5-6CA9-4A1E-A426-8AC480A3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8BCF22-EE37-4E67-89CC-F4E972FF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CDAA29-80D9-4CD9-80FD-71B0820E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7867B3-0DED-4DB1-B806-03F9BD59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721D12-0847-4BEA-B951-B3C5FDB5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3C5023-50CD-4D33-970D-206CFA51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19C9C6-C83C-4F2B-8974-006483E6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CA1091-AAB1-49E6-A497-9D141791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65D4A3-B89F-44BA-8419-9EC06CEA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051-18A5-4EA9-BEA2-B4663F7C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0DE29-34DD-4BD4-9D90-B91C0259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58F27E-3911-4094-94B6-393F6ECE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EEDD17-CB4A-4FCB-8518-A41DDEEC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E62D5C-200D-497C-B255-EF7D921C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D3DD4-F157-4E3C-B7AB-562B327F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0AE5E-20DE-4814-90B6-4828851D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0B36FA-F593-4AC6-8708-C7A5565B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92F50D-0B51-47C6-8C9D-2638AFBF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EAE973-B4A8-43E7-BCCB-B7C56E04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0791D5-45EC-4269-BAE8-838DE985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145-E959-47D7-A532-E67BA0D9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476384-7B7D-49FD-ACC8-C39D1D68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68C7D-B20A-44A4-AC69-F44664DF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E893D-2E09-4965-9B6A-08297081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1027F3-46FC-4196-B444-C68C2277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1A65BC-1101-4997-80E9-20E30464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98542-A3BB-4CE8-93FF-8E86E16D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1BFEE-C83A-41D8-9729-F862C471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4FFA16-9536-449E-979E-9DCB76F6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DBD286-B377-4B5C-A1CF-C629A6C9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93104C-86E2-41B0-BF11-B99C0E53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D518-3E3A-42E3-A7EF-BA8D83FB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2A35CF-A903-4AE4-A01B-91C7BED6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567EC3-8E2C-454B-BAB4-E05926E8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F1FB45-E684-4CE5-B2C2-536D0C6D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FD2-EB73-487E-9460-DED8138C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C92-6233-4EB9-873B-804BD9A1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371B-7FD7-4C2A-967F-B5E36A25CAD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7DF2-4C4C-4035-AEF0-829D1BA44A8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CB0A-727F-4A69-9A85-813B258BAD7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9F22-05A2-4B93-ACA4-B3A436E0552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63A4-EA0C-4DB4-B82C-97F5C7551EE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31DF-57F7-4B94-B8F5-5C49807C1EC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val 3"/>
          <p:cNvSpPr/>
          <p:nvPr/>
        </p:nvSpPr>
        <p:spPr>
          <a:xfrm>
            <a:off x="228600" y="228600"/>
            <a:ext cx="8610480" cy="632448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EDUCATIONAL TECHNOLOG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Oval 6"/>
          <p:cNvSpPr/>
          <p:nvPr/>
        </p:nvSpPr>
        <p:spPr>
          <a:xfrm>
            <a:off x="1295280" y="1523880"/>
            <a:ext cx="6400800" cy="4038840"/>
          </a:xfrm>
          <a:prstGeom prst="ellipse">
            <a:avLst/>
          </a:prstGeom>
          <a:solidFill>
            <a:srgbClr val="9c85c0"/>
          </a:solidFill>
          <a:ln w="38160">
            <a:solidFill>
              <a:srgbClr val="716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2895480" y="18288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INSTRUCTIONAL TECHNOLOG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2895480" y="2743200"/>
            <a:ext cx="3124440" cy="18288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3048120" y="335268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TECHNOLOGY INTEG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3:01:31Z</dcterms:created>
  <dc:creator>Barsales</dc:creator>
  <dc:description/>
  <dc:language>en-US</dc:language>
  <cp:lastModifiedBy>Barsales</cp:lastModifiedBy>
  <dcterms:modified xsi:type="dcterms:W3CDTF">2012-07-10T13:04:10Z</dcterms:modified>
  <cp:revision>1</cp:revision>
  <dc:subject/>
  <dc:title>PowerPoint Presentation</dc:title>
</cp:coreProperties>
</file>